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192-B20B-4A3F-9C31-A2CAF65F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A347-6BE1-46F9-85E7-FE6ABF93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3FB6-412D-492D-82C8-8724339E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3C4-20C9-4400-911F-DDB829BE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E021-220A-4F46-9A34-ECA4039D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9AAB-91EA-404C-8DC6-231AF149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3026-5CD6-4690-9280-9E2ACF66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A603-FA03-48D4-AE7D-BCA7D86D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E446-AE37-4B3C-94DC-1C69D30C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FC28-C3F9-48C7-881F-0C992A17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877B-D788-4993-8B7D-A5213471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C9BC-A97F-444E-9FE4-C94AC159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E439-7150-4FE2-8D0B-C56E50BC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959B-DC78-4061-9696-B0C1C9D7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979F-BF4D-47F1-A6A8-31424ED1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1B27-817B-4999-BBC3-C89A4638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1543-0582-4B4F-87EB-93A098BF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63467-A4B4-4AD8-A981-30926A26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46CBA-AE83-4500-8360-5FEECAFF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E5407-C287-49B8-B219-2288745C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DAB59-EA02-401D-B4E1-8302398C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A0AE9-31EA-40FB-84C2-6EB43A04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1B6D-584D-4C46-A2AC-731B616A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F23D1-9EAB-48D0-9115-68759303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B4C57-9740-47CD-A058-9791CC89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44ECF-DD75-4845-9AE4-9729545D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BD193-B93F-4984-9BC1-E035B2E7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BBFA2-9637-4B4F-BF88-16F59E17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B6411-C177-46B8-8648-99C441F3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EAA4D-F525-4D79-A52F-1F1A90D3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86BED-2313-4E66-8442-292ED9C8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A91D0-9BA2-4746-B2F3-8BC2361A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02235-7D2E-48B5-9DFB-1A72BAFC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90E-552E-4240-B962-B25C802C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CF0CF-54B8-4876-A8AB-D0BB935A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D32D6-C376-466F-ADE5-7947777D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2CFB2-2417-43DA-B668-72B1EE3F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9430C-0812-4366-BD99-3315BF13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DAFBF-AF8D-43EE-A6CA-0B00E28E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6850D-8699-4916-9219-88D6C7AB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4ABD1-5A6F-4CEE-8C76-8DB54D39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5EE00-57BB-4CE1-9BF6-6FBE43A9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8DD7B-F1F2-45D9-A1A5-76D8A740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EFCA7-530B-4489-B80A-AF60AA99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A74-1E4A-4AEE-AC12-443D532C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F66B9-31F9-4711-9B9D-82070158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D3C1C-C519-4D80-A19C-A3F9F759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4E6D8-9F58-478D-9363-73CB995B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E0070-723A-48A0-B7E4-D5B2857B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1D53B-D8EB-4B89-8CB3-9456BE11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1356D-A5BA-4F48-8959-5AAF085D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F028C-7D10-48DC-BEC3-F156F2F2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99405-2E20-4D0B-ACFA-4C4D1BBD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628CE-841E-408A-A315-79AFA16B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F76B1-C31E-41B4-B247-BD04E5DE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6731-FA33-4A6E-A733-167A1B5E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AE1AB-9DDA-4471-8DDA-A5863403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93AE6-C53A-459B-AA50-21269093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0ED77-C236-4FF0-A865-7F477D0F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E6912-310B-415E-A2C3-123A5E1A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0B926-834C-4A31-B791-108FE5FD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2911F-F3CD-4B46-8D20-C1B9FE95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CCEEC-6F9A-470A-B190-250215E6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40179-4C14-4B81-A86D-B603339A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1EBA8-3632-4F7F-B0A0-0CE697CE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93ED3-E519-46C3-8EDB-8D6E375C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DD2-CE1D-4157-9D7E-A5112727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5512E-09DD-4B92-912D-E079E82F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8116A-7D2D-4347-88D4-D86294CF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B3471-11BE-48D1-875C-E059D703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E1F-1FD7-40BF-9443-15286340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AA9F-AB29-450F-A05B-764CF3DF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805D-5D75-499E-A88F-C70A320F5F0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7CA2-A82F-4F32-B56E-1CA654FA673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B382-0738-40F4-896A-851606DBBA5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8012-3E6B-401A-8E21-ED3E0A525DE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9BE0-9B6C-4186-9AAC-4465A9D8F98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EC83-9723-402F-9780-5B4D77093D4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856800" y="1856880"/>
            <a:ext cx="6480360" cy="19321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ффект операционного рычаг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16360" y="515772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екция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213840"/>
            <a:ext cx="83296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ующий показатель –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ас финансовой проч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ас фин.прочности = выручка от реализации – порог рентабельнос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мер финансовой прочности показывает, что у предприятия есть запас финансовой устойчивости, а значит, и прибыль. Но чем ниже разница между выручкой и порогом рентабельности, тем  больше риск получить убытк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85840" y="285840"/>
            <a:ext cx="857232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еременным затратам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оторые изменяются от изменения объема выпуска  продукции, относятся сырье и материалы, топливо и энергия для технологических целей, покупные изделия и полуфабрикаты и т.д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остоянным (общефирменным) затратам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амортизационные отчисления, арендная плата, заработная плата административно-управленческого аппарата, %-ы за кредит и т.д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матривая поведение переменных и постоянных затрат, следует анализировать состав и структуру затрат на единицу продукции в определенном периоде времени  и при определенном количестве продаж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т так характеризуется поведение переменных и постоянных затрат при изменении объема производства (сбыта)  (таблица 1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6840" y="500040"/>
            <a:ext cx="81867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овременных условиях на предприятиях вопросы регулирования массы и динамики прибыли выходят на одно из первых мест в управлении финансовыми ресурсами. Решение данных вопросов входит в рамки операционного (производственного) финансового менеджмента. Известно, что предпринимательская деятельность связана со многими факторами, влияющими на ее результат. Все их можно разделить на две группы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ая группа факторов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язана с максимизацией прибыли за счет спроса и предложения, ценовой политики, рентабельности продукции, ее конкурентоспособности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ая группа факторов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язана с выявлением критических показателей по объему реализуемой продукции, наилучшим сочетанием предельной выручки и предельных затрат, с делением затрат на переменные и постоянны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560" cy="1154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1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дение переменных и постоянных затрат при изменении объема производства (сбыта)</a:t>
            </a: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14200" y="1857240"/>
          <a:ext cx="8715600" cy="2286000"/>
        </p:xfrm>
        <a:graphic>
          <a:graphicData uri="http://schemas.openxmlformats.org/drawingml/2006/table">
            <a:tbl>
              <a:tblPr/>
              <a:tblGrid>
                <a:gridCol w="2133720"/>
                <a:gridCol w="1835280"/>
                <a:gridCol w="1512720"/>
                <a:gridCol w="1469880"/>
                <a:gridCol w="1764000"/>
              </a:tblGrid>
              <a:tr h="394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производств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быт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ные издерж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е издерж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р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единицу продук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р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единицу продук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а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в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ьш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зме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зменн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зме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зменн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ьш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вают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  <p:sp>
        <p:nvSpPr>
          <p:cNvPr id="260" name="Заголовок 1"/>
          <p:cNvSpPr/>
          <p:nvPr/>
        </p:nvSpPr>
        <p:spPr>
          <a:xfrm>
            <a:off x="642960" y="4214880"/>
            <a:ext cx="79725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14200" y="4572000"/>
            <a:ext cx="842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издержек не столько количественное отношение, сколько качественное. Тем не менее влияние динамики переменных и постоянных затрат на формирование финансовых результатов при изменении объема производства весьма существен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6840" y="500040"/>
            <a:ext cx="7467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нно со структурой затрат тесно связан операционный рыча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ерационный рычаг или производственный леверидж (leverage в дословном переводе - рычаг)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это механизм управления прибылью предприятия, основанный на оптимизации соотношения постоянных и переменных затрат. С его помощью можно прогнозировать изменение прибыли предприятия в зависимости от изменения объема продаж, а также определить точку безубыточн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6840" y="285480"/>
            <a:ext cx="74674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ерационный анализ работает с такими параметрами деятельности предприятия, как затраты, объем реализации и прибыль. Большое значение для операционного анализа имеет разделение затрат на постоянные и переменные. Основными величинами, используемыми в операционном анализе, являются: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аловая маржа (сумма покрытия), сила операционного левериджа, порог рентабельности (точка безубыточности),  запас финансовой проч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500040"/>
            <a:ext cx="8400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Валовая маржа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прибыль от реализации + постоянные затр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ctr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клад (сумма покрытия)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выручка от реализации – переменные затр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ффект рычага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(выручка от реализации – переменные затраты(вклад)) / прибыль от реализац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571320"/>
            <a:ext cx="8400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трактовать эффект воздействия операционного рычага как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е валовой марж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о ее расчет позволит ответить на вопрос на сколько изменяется прибыль от увеличения объема (производства, сбыта) проду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яется выручка, изменяется сила рычага.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име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если сила рычага равна 8,5, а рост выручки планируется на 3%, то прибыль вырастет на: 8,5*3%=25,5%. Если выручка падает на 10%, то прибыль уменьшается на: 8,5*10%=8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ако при каждом росте выручки от реализации сила рычага меняется, а прибыль раст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6840" y="428760"/>
            <a:ext cx="8472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ует следующий показатель, который вытекает из операционного анализа, -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г рентабельности (или точка безубыточност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г рентабельности рассчитывается как отношение постоянных затрат к коэффициенту валовой марж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ловой маржи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валовая маржа / выручка от реал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ю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г рентабельности = постоянные расходы / К 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ловой марж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2:31:43Z</dcterms:created>
  <dc:creator>Users</dc:creator>
  <dc:description/>
  <dc:language>en-US</dc:language>
  <cp:lastModifiedBy>User</cp:lastModifiedBy>
  <dcterms:modified xsi:type="dcterms:W3CDTF">2011-06-07T10:01:41Z</dcterms:modified>
  <cp:revision>14</cp:revision>
  <dc:subject/>
  <dc:title>Слайд 1</dc:title>
</cp:coreProperties>
</file>